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2DD-456C-40B2-B4BD-B9668910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582-C22E-4DD6-9F2C-9E5C0130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FE48-3A8E-43B0-A41A-7686E869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1B3-D75A-47F7-B01C-07BA39F6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FBD-834F-4A20-8001-E2C23E2F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3C11-0619-4D0D-B68C-D11CD3C6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03A6-7BA7-4D65-A878-BA28CB5C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819-552A-47D1-88BD-66B718C6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E9D-AE9F-4910-B70C-7AA67DB2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48A-9F15-4B85-AF78-7924A346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65AC-FD91-4F83-92DD-28232B67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D41-806F-4FFB-B690-9C97AE9D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0EE1-E330-4119-97F9-1E6035831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657600" cy="262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09680" y="0"/>
            <a:ext cx="5029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uschwitz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3720" y="58672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y: Anjali Rowe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5638680"/>
            <a:ext cx="388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z.about.com/d/history1900s/1/0/f/7/auschwitz17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25780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ad bodies in a gas cha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s a Jewish concentration camp complex that was established by the Nazi’s to carry out the Holoc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 was mainly for Polish political prisoners many of them died from starvation, diseases, or harsh trea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I was a primarily an extermination (mass killing) facility. Later on they included 4 large gas chambers were people were killed with large amounts of poisonous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II opened mainly as a slave labor center where they made synthetic rub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62320" y="457200"/>
            <a:ext cx="6476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at went on inside ?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981080" cy="1301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1676520"/>
            <a:ext cx="2209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ttp://3.bp.blogspot.com/_FKUpGU_Jbp0/SYDEwEMM1SI/AAAAAAAABTY/i6ju2XYN_F0/s400/gas+chambers+-+Auschwitz.jp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 Ch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s a Jewish concentration camp complex that was established by the Nazi’s to carry out the Holoc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re were 3 different “Auschwitz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 (May 19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I (early 19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schwitz III (October 19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first was created in May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cated approximately 37 miles west of Krakow, near the German-Polish b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438280" y="380880"/>
            <a:ext cx="44960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en and Where ?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638680" y="2819520"/>
            <a:ext cx="2514600" cy="1579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5880" y="472428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leithjb.net/blog/wp-content/uploads/2008/11/Auschwitz_map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4419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 of Auschwitz I and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people that were involved was 1 ¼ million people, mostly Jews were killed at Auschwit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other victims included other races such as: Poles, Roma ( sometimes called Gypsies) , and Soviet prisoners of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09680" y="457200"/>
            <a:ext cx="4648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o Was Involved ?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174960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617220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ttp://www.flyingchariotministries.com/260px-Star_of_David_svg.p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8320" y="4419720"/>
            <a:ext cx="2043000" cy="141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48320" y="5943600"/>
            <a:ext cx="21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ttp://www.holocaustresearchproject.org/nazioccupation/images/Soviet%20prisoners%20of%20war%20arrive%20at%20the%20Majdanek%20camp.jp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itler wanted them all gone because the “mass” wanted them gone 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blamed the communists, then he blamed the Slavs, and then he blamed the Je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me people believe that this event happened mainly because Hitler disliked the Jews and wanted them all gone. Hitler also blamed them for Germany’s economical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0" y="53352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y Hitler wanted them dead?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781680" y="5029200"/>
            <a:ext cx="1809720" cy="1379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5105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733920" y="4876920"/>
            <a:ext cx="175716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828800" y="380880"/>
            <a:ext cx="5562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mportance to WWII ?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66680" y="380880"/>
            <a:ext cx="6934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ow did this event impact the world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ted States Holocaust Memorial Museum. "The Holocaust."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Holocaust Encyclopedia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http://www.ushmm.org/wlc/en/index.php?ModuleId=10005143 (accessed September 8, 200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gel, David. "Auschwitz."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World Book Student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orld Book, 2009. Web. 11 Dec. 200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666880" y="533520"/>
            <a:ext cx="4038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ibliography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4:53:09Z</dcterms:created>
  <dc:creator>21049</dc:creator>
  <dc:description/>
  <dc:language>en-US</dc:language>
  <cp:lastModifiedBy>21049</cp:lastModifiedBy>
  <dcterms:modified xsi:type="dcterms:W3CDTF">2009-12-14T18:24:33Z</dcterms:modified>
  <cp:revision>15</cp:revision>
  <dc:subject/>
  <dc:title>Slide 1</dc:title>
</cp:coreProperties>
</file>